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1C7B-13A3-4CC4-A960-245235CE53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B2D5-D518-4AE3-9AA8-98440691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F4DD-A3D9-4203-B33B-ABBB92FE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8F07-4ED3-442B-8764-C1C7CE2D35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A4999-D04E-4B6E-974D-87C414B296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7DC1A-CDCA-4420-BF8F-689655B0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2D368-887A-4DE4-84C2-AE8E0A80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78DEE-027A-433A-B8CF-9D36501C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51790-45DA-4A27-9775-FED2CD9C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E6970-8BAB-46B1-8587-9AC8180A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B83B-39C6-4751-8A49-D9EE6E01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0A9CB-4CFC-4B4B-8C84-FE886ECA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11686-7D17-439B-B20A-679E3029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3E15C-B115-463C-A81D-C97CB1C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CF3E8-2616-43D1-953D-22F290FF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294D-B2BD-4760-B08B-551AAAB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D7650-87A3-484E-BB47-DF4E0EE90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1761-730B-400C-8A90-00935B014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B899-7B81-4476-9F54-43630766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9900-1580-422F-A0BF-0A7AAAF1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F4C7-D17B-4E7B-8819-07432179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419B-F0B4-44A3-9625-CCE4EE17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DDCBE-1109-4E0D-8F3A-233EBC86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A40-8E88-4E37-AB4E-E19366F5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D69F-10AC-47AD-AFE4-649738E6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C900-FFAC-49DD-B5DC-097DEF5B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0289-4E0F-42C3-BDA9-BF9A62F2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366B-4259-436D-88D8-154BE56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46B8-6F47-4DA4-AF1D-49DA2B4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6781-996D-4686-9B63-A719D988C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90F64-93D1-4B6B-9A51-1A1C5429F0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A082C-6F29-403E-B2AF-BFCCF434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FDE59-FE4E-438A-94DF-541668F5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2A75-5DA9-4626-9360-3C9C5BA3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10A0-EB67-4887-8A62-14D90EB3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01037-1238-4B38-BA3C-3A17FFD1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A16D05-24CA-4A8B-A606-4D89DC90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2608E-50A0-4BD7-AA77-1A58439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C0670B-5903-4B1F-BAD7-2459A160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C3D43A-E9AC-4F6D-B801-5AA51FF7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F3136F-799E-4ADF-AA2B-8A073E83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CF03-F029-4FA7-A259-2E3E287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5F790A-76EB-4008-AE87-BE69D7232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DE4F-950B-4D9C-8901-831D7970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8160" cy="72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D141-8693-4881-B1C1-722C328D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7538B-CC36-4C4D-BDB7-7D51CDA8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6AD2-CC4B-4298-A0AE-A70487DD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17414-D73B-48C4-95F4-4B1F5C13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A02FD3-150B-457D-9A3D-24CF044F08E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873CE89-6D32-40E0-8211-183B693C38D5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80720" cy="565200"/>
              <a:chOff x="-19080" y="247680"/>
              <a:chExt cx="9180720" cy="5652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en-GB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0FD8B0E-2D7E-48B3-B259-65AD30681760}" type="slidenum">
              <a:rPr b="0" lang="en-GB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95000"/>
              </a:lnSpc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5000"/>
              </a:lnSpc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95000"/>
              </a:lnSpc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AE9973-7223-4EF2-B3B1-A37288F640BF}" type="slidenum">
              <a:rPr b="0" lang="en-GB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633240" y="920880"/>
            <a:ext cx="8077320" cy="1487520"/>
            <a:chOff x="633240" y="920880"/>
            <a:chExt cx="8077320" cy="14875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633240" y="920880"/>
              <a:ext cx="8077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33240" y="920880"/>
              <a:ext cx="807732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00040" y="2571840"/>
            <a:ext cx="807264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GB" sz="2700" spc="-1" strike="noStrike">
                <a:solidFill>
                  <a:srgbClr val="ffffff"/>
                </a:solidFill>
                <a:latin typeface="Constantia"/>
              </a:rPr>
              <a:t>Protocollo d’Intes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Assessorato Sanità Regione Campania - Procura Gene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nstantia"/>
              </a:rPr>
              <a:t>Progetto Formazione Personale Vigilanza ASL Campa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D.ssa Lucia Marino Direttore SIML  Dipartimento Prevenzione ASL NA</a:t>
            </a:r>
            <a:r>
              <a:rPr b="0" lang="en-GB" sz="23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en-GB" sz="1700" spc="-1" strike="noStrike">
                <a:solidFill>
                  <a:srgbClr val="ffffff"/>
                </a:solidFill>
                <a:latin typeface="Constantia"/>
              </a:rPr>
              <a:t> Cen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3419640" y="5373720"/>
            <a:ext cx="248436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143080" y="714240"/>
            <a:ext cx="4643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4240" y="2857680"/>
            <a:ext cx="2143440" cy="78552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Sa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0" y="2643120"/>
            <a:ext cx="2357640" cy="7146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nstantia"/>
              </a:rPr>
              <a:t>Giustizia</a:t>
            </a:r>
            <a:r>
              <a:rPr b="0" lang="en-GB" sz="1800" spc="-1" strike="noStrike">
                <a:solidFill>
                  <a:srgbClr val="0b5395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"/>
          <p:cNvCxnSpPr/>
          <p:nvPr/>
        </p:nvCxnSpPr>
        <p:spPr>
          <a:xfrm flipH="1">
            <a:off x="2785320" y="1785600"/>
            <a:ext cx="857880" cy="107244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>
            <a:off x="5429160" y="1856880"/>
            <a:ext cx="929520" cy="715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457200" y="1935000"/>
            <a:ext cx="822960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inizio a un percorso nuovo condiviso mettendo in comu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esperien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or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form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57120" y="71424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Solo attraverso la conoscenza del territorio e la competenza degli operatori si può attuare una vera strategia della sicurezza e programmare azioni di sinergia incisive ed efficaci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abbattimento  dei ris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’incidenza  degli  infort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riduzione  delle  malattie  profess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b5395"/>
                </a:solidFill>
                <a:latin typeface="Constantia"/>
              </a:rPr>
              <a:t>la realizzazione  di un sistema  di sicurezza organizzata che garantisca pienamente la tutela della salute e della sicurezza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42960" y="2000160"/>
            <a:ext cx="75866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GB" sz="5400" spc="-1" strike="noStrike">
                <a:solidFill>
                  <a:srgbClr val="0070c0"/>
                </a:solidFill>
                <a:latin typeface="Edwardian Script ITC"/>
              </a:rPr>
              <a:t>Grazie  per 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4617b"/>
                </a:solidFill>
                <a:latin typeface="Calibri"/>
              </a:rPr>
              <a:t>Convegno Reg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20 e 21 maggio 200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 Campania – Assessorato alla Sanit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CUREZZA E’ SINERGIA ISTITUZIONAL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Nell’ambito del convegno è stato sottoscritto un Protocollo di Intesa condiviso dalla Procura Generale della Repubblica di Napoli e dall’Assessorato alla Sanità della Regione Campa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Sinergie Istituzion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a collaborazione istituzionale, sancita dal Protocollo di Intesa assolverà a varie funzioni e tra l’altro è stato messo a punto e pianificata un’attività formativa rivolta agli operatori delle ASL impegnati nelle attività di Prevenzione e Vigilanza degli ambienti di lavoro di tutta la Regione Campan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vigil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decreto 81/2008 e le successive modifiche introdotte dal D. Lgs. 106/09 confermano che la vigilanza sull’applicazione della legislazione in materia di salute e sicurezza dei luoghi di lavoro è a carico della Azienda Sanitaria Locale competente per territorio, pertanto è necessario che al personale dei servizi di vigilanza delle ASL venga assicurata una opportunità di confronto sia istituzionale sia tra tutti gli operatori regional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Struttura del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l corso che tutt’ora si sta svolgendo è rivolto a un totale di 250 operatori e suddiviso in 4 moduli di 50 persone ciascuno per un totale di 150 o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normati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mpianti-cantieri-appal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ischi chimici, biologici e fis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ttività di vigilanza e la qualifica di UP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li operatori del sistema sanitario nazionale della Regione Campania dipendenti dei servizi PSAL e SIML dei Dipartimenti di Prevenzione delle ASL che svolgono attività di vigilanza in materia di tutela di salute e sicurezza dei lavoratori con funzioni di polizia giudizi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Me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im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Ingegn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P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L’iniziativa di questo protocollo di intesa è innovativa in Italia e punta ad ottenere una sinergia tra istituzioni deputate ad arginare il fenome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   “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danno da lavoro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( infortuni e malattie professionali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contras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a con un’azione di prevenzio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Questa collaborazione istituzionale assolve a varie funzion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Garantire al personale delle ASL un corretto aggiorna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sicurare un’uniformità di orientamenti su tutto il territorio reg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Potenziare l’azione dei singoli attori attraverso un coordinamento istituzion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Valorizzare la sinergia tra prevenzione e repress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4617b"/>
                </a:solidFill>
                <a:latin typeface="Calibri"/>
              </a:rPr>
              <a:t>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Si realizza così un Coordinamento t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                            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Regione-ASL  e Procur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che trasforma l’esperienza collaborativa già esistente, ma limitatamente alla repressione dei reati in tema di tutela di salute e sicurezza dei luoghi di lavoro, in una collaborazione stabile attraverso un </a:t>
            </a:r>
            <a:r>
              <a:rPr b="1" lang="en-GB" sz="2600" spc="-1" strike="noStrike">
                <a:solidFill>
                  <a:srgbClr val="0b5395"/>
                </a:solidFill>
                <a:latin typeface="Constantia"/>
              </a:rPr>
              <a:t>travaso di esperienze e una osmosi </a:t>
            </a: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tra le istituzioni prepos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giurid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b5395"/>
                </a:solidFill>
                <a:latin typeface="Constantia"/>
              </a:rPr>
              <a:t>aspetti operativi della vigil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26043</cp:lastModifiedBy>
  <cp:revision>0</cp:revision>
  <dc:subject/>
  <dc:title>Osservatorio Napoli Città Sicura 21 e 22 gennaio 2010</dc:title>
</cp:coreProperties>
</file>